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509-E2A7-4950-9DA3-5DA7F5DD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8BE-B302-4DBF-BBCC-7237EC37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B2B-5EBB-4447-B78E-102E60E6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B21-CBAB-4F8E-BBCB-73BCE772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EFAA-838E-4DE4-96B3-B249F222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E96-8288-43CA-A322-ADC4C6EC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64C-721B-4FF2-9569-906A0BF4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865-22A0-44F5-A693-2C4E6847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B6C-77F3-422E-B1C4-767CEAA3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B45-9990-4C45-9034-41047EB8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BA3-8BC6-4878-864A-3CFC34E7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BC4E-6994-4A50-930D-833B99B7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CB8D-47B4-4EE1-A0BF-91C4D5125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Great Escap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lmed By: John Rebov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ors: Ronneil Jones Jr., Michael Mazz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4" descr=""/>
          <p:cNvPicPr/>
          <p:nvPr/>
        </p:nvPicPr>
        <p:blipFill>
          <a:blip r:embed="rId2"/>
          <a:stretch/>
        </p:blipFill>
        <p:spPr>
          <a:xfrm>
            <a:off x="1206360" y="963720"/>
            <a:ext cx="67248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51840" y="304920"/>
            <a:ext cx="90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abel and Curzon plan to break out of the prison, this break is a carefully planned break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0" y="3049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50400" y="152280"/>
            <a:ext cx="90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As Isabel sneaks her way through the streets with Curzon in the wheelbarrow they must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stay out of sight  of the Red Coats for they will be beaten or killed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0" y="518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ckily the Red Coats were distracted by fireworks over the Wharf for just enough time for Isabel to slip by with Curzon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0" y="609480"/>
            <a:ext cx="943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abel Dragged Curzon to the edge of the Wharf. Isabel got in the row boat and pulled Curzon in Isabel picked up the oars and rowed that rive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0" y="304920"/>
            <a:ext cx="111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abel rowed until her hands blistered popped and did it again.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51120" y="380880"/>
            <a:ext cx="92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Isabel opened her eyes the light burnt them from the bright morning sun, the boat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d been ashore tangled in the bushes. Isabel woke up to see that she had set her self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. Curzon asked where they were. Just like the old man said they had found the River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rdan and had made it  they were free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5:07:50Z</dcterms:created>
  <dc:creator>VV</dc:creator>
  <dc:description/>
  <dc:language>en-US</dc:language>
  <cp:lastModifiedBy>Student</cp:lastModifiedBy>
  <dcterms:modified xsi:type="dcterms:W3CDTF">2011-05-03T13:35:56Z</dcterms:modified>
  <cp:revision>23</cp:revision>
  <dc:subject/>
  <dc:title>The Great Escape </dc:title>
</cp:coreProperties>
</file>